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AF640-E705-4CAB-880A-DDEEC844A5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50285-30EE-4639-A6EE-5CC5FCA3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72B6-AB3A-400D-BEC5-96FCF657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DFA6-EC5D-4078-A690-C8760E03F9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5E922-30FF-4116-8862-7FC3B860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67B42-9060-42F4-A9EE-0DF1A459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1D7D7-4A0B-4B0F-BD50-915339CF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B834D-4E0F-44FC-BFBA-8BF1DE3D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36BEB-F322-4203-9DBC-F4B8AE38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4D1AC-90B5-4D14-AFCB-ED88AFA9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05910-28CE-4F4F-8690-FF527EEB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3550B-3AFF-44E8-A8A5-BA64C500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31CC-B3D2-4DFE-B672-2D1D7DD181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第五章   产褥期管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褥期妇女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371600"/>
            <a:ext cx="8731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一）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内可升高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，可出现泌乳热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7.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9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可自行恢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宫缩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时产生，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出现，持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缓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50920" y="1052640"/>
            <a:ext cx="8732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露：经阴道排除的坏死的蜕膜组织、血液和宫腔渗出物等。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133720"/>
          <a:ext cx="8820000" cy="4248000"/>
        </p:xfrm>
        <a:graphic>
          <a:graphicData uri="http://schemas.openxmlformats.org/drawingml/2006/table">
            <a:tbl>
              <a:tblPr/>
              <a:tblGrid>
                <a:gridCol w="3024000"/>
                <a:gridCol w="2855880"/>
                <a:gridCol w="294012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血性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浆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白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78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血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鲜红，量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红细胞、胎膜、坏死蜕膜组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多量浆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淡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较多的坏死蜕膜、子宫颈黏液、阴道排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白细胞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较白，质黏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大量白细胞、坏死蜕膜组织、表皮细胞及细菌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约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763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消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周恢复至未孕状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褥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泌尿增多、排尿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755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初期易出现乳头皲裂、乳房胀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重减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压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与产妇体内的雌、孕激素水平急剧下降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心理压力及疲劳有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血、尿常规检查和药物敏感试验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前检查经历、分娩经过，评估用药史，特别注意妊娠、分娩过程中的异常情况及其处理经过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妇对分娩的感受、产妇的自我形象、母亲角色适应情况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处理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健康行为指导的护理活动为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尿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睡眠型态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一）评估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：一般不超过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脉搏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呼吸：深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血压：平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二）休息与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开窗通风，保持空气新鲜。保持床单位清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干燥。保证产妇足够营养和睡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0kcal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脂肪摄入占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/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胆固醇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m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保证无机盐类摄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期母体变化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排尿与排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后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</a:rPr>
              <a:t>初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排尿时间及尿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鼓励产妇排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能自行排尿者：坐起、热水熏洗外阴；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刺穴位；运用药物；导尿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多饮水、吃含纤维食物，防止便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避免负重，预防子宫脱垂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79280" y="1268280"/>
            <a:ext cx="8731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子宫复旧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恶露的色、量、味，以确定子宫复旧是否良好，有无感染。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内应详细记录子宫底高度和恶露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内容占位符 1" descr=""/>
          <p:cNvPicPr/>
          <p:nvPr/>
        </p:nvPicPr>
        <p:blipFill>
          <a:blip r:embed="rId1"/>
          <a:stretch/>
        </p:blipFill>
        <p:spPr>
          <a:xfrm>
            <a:off x="231840" y="1871640"/>
            <a:ext cx="87598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外阴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高锰酸钾溶液冲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观察会阴伤口有无红肿、出血、硬结、异常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00000" y="3716280"/>
          <a:ext cx="7427880" cy="1554120"/>
        </p:xfrm>
        <a:graphic>
          <a:graphicData uri="http://schemas.openxmlformats.org/drawingml/2006/table">
            <a:tbl>
              <a:tblPr/>
              <a:tblGrid>
                <a:gridCol w="1695600"/>
                <a:gridCol w="573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水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95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乙醇或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50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硫酸镁湿热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血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湿敷、红外灯照射、切开处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硬结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大黄、芒硝外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1052640"/>
            <a:ext cx="87314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乳房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1628640"/>
          <a:ext cx="8280360" cy="4892760"/>
        </p:xfrm>
        <a:graphic>
          <a:graphicData uri="http://schemas.openxmlformats.org/drawingml/2006/table">
            <a:tbl>
              <a:tblPr/>
              <a:tblGrid>
                <a:gridCol w="2808360"/>
                <a:gridCol w="5472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一般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哺乳前湿敷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5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时采用适当姿势，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20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后挤出少量乳汁涂在乳头乳晕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异常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妊娠中期纠正；无法纠正者使用乳头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房胀痛及乳腺炎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鼓励早期喂奶；哺乳前热敷乳房；哺乳时充分吸空乳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皲裂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皲裂处涂敷蓖麻油铋糊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退乳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遵医嘱给予药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次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时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最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延长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mi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姿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扶拖乳房，让婴儿含入乳头和大部分乳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后将新生儿竖起轻拍背部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mi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排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胃内空气，以防吐奶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八）出院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生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院后母乳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划生育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保健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三节  正常新生儿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新生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37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足周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≤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胎龄＜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42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d0d0d"/>
                </a:solidFill>
                <a:latin typeface="宋体"/>
              </a:rPr>
              <a:t>出生体重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≥ 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500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新生儿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儿出生断脐后到满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天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50920" y="1916280"/>
          <a:ext cx="8642160" cy="4295520"/>
        </p:xfrm>
        <a:graphic>
          <a:graphicData uri="http://schemas.openxmlformats.org/drawingml/2006/table">
            <a:tbl>
              <a:tblPr/>
              <a:tblGrid>
                <a:gridCol w="1655640"/>
                <a:gridCol w="698652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呼吸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腹式呼吸、节律常不规则、频率较快，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循环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心率较快、波动范围大，平均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消化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开始排便、黑绿色黏稠状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d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转为正常大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泌尿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内排尿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日。早期尿色深，稍浑浊，放置有红褐色沉淀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神经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各感官灵敏度不一，睡眠时间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50920" y="1916280"/>
          <a:ext cx="8892720" cy="2408040"/>
        </p:xfrm>
        <a:graphic>
          <a:graphicData uri="http://schemas.openxmlformats.org/drawingml/2006/table">
            <a:tbl>
              <a:tblPr/>
              <a:tblGrid>
                <a:gridCol w="1778760"/>
                <a:gridCol w="711396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中枢发育尚不完善，易受外温影响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免疫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尚不成熟，胎儿期获得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G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未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M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皮肤黏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覆盖灰白色胎脂，数小时后吸收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身各器官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除乳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盘娩出恢复至未孕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常见的几种生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皮珠和“马牙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黄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体重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腺肿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假月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出生后即刻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入母婴同室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体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日常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体温失调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感染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娩出时注意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生后立刻擦干身体，采取保暖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母婴同室房间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湿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5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保证安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历有新生儿右脚印及其母右拇指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手圈、操作核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垫、床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头柜禁止摆放危险物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保持呼吸道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清除口鼻内液体、分泌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合适卧位，避免窒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包被、奶瓶、乳房等物压迫呼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咽拭子培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病新生儿隔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脐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接种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卡介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肝疫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合理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半小时内吸吮母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早期教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训练新生儿视觉、听觉功能，培养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生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生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乳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血液循环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消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泌尿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内分泌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腹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图表 6" descr=""/>
          <p:cNvPicPr/>
          <p:nvPr/>
        </p:nvPicPr>
        <p:blipFill>
          <a:blip r:embed="rId1"/>
          <a:stretch/>
        </p:blipFill>
        <p:spPr>
          <a:xfrm>
            <a:off x="390600" y="901800"/>
            <a:ext cx="84294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5728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572000" y="3068280"/>
            <a:ext cx="0" cy="237636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二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孕酮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催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具备泌乳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 flipV="1">
            <a:off x="7523280" y="3068640"/>
            <a:ext cx="1440" cy="244800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61928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457056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1619280" y="3068280"/>
            <a:ext cx="0" cy="252108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生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激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乳汁开始分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文本框 2"/>
          <p:cNvSpPr/>
          <p:nvPr/>
        </p:nvSpPr>
        <p:spPr>
          <a:xfrm>
            <a:off x="197964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妊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8"/>
          <p:cNvSpPr/>
          <p:nvPr/>
        </p:nvSpPr>
        <p:spPr>
          <a:xfrm>
            <a:off x="493236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产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43280" y="1125360"/>
            <a:ext cx="3745080" cy="790920"/>
          </a:xfrm>
          <a:prstGeom prst="wedgeRoundRectCallout">
            <a:avLst>
              <a:gd name="adj1" fmla="val 6648"/>
              <a:gd name="adj2" fmla="val 207412"/>
              <a:gd name="adj3" fmla="val 16667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91344"/>
                </a:solidFill>
                <a:latin typeface="Arial"/>
              </a:rPr>
              <a:t>哺乳过程和不断排空乳房是维持乳腺不断泌乳的关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21"/>
          <p:cNvSpPr/>
          <p:nvPr/>
        </p:nvSpPr>
        <p:spPr>
          <a:xfrm>
            <a:off x="4140360" y="278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分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图表 1" descr=""/>
          <p:cNvPicPr/>
          <p:nvPr/>
        </p:nvPicPr>
        <p:blipFill>
          <a:blip r:embed="rId1"/>
          <a:stretch/>
        </p:blipFill>
        <p:spPr>
          <a:xfrm>
            <a:off x="317520" y="1335240"/>
            <a:ext cx="8697960" cy="4889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2400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四）消化系统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后逐步复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五）泌尿系统：产后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复原，警惕产褥早期尿路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六）内分泌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不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月经复潮，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4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个月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七）腹壁：出现不可消退妊娠纹。腹壁松弛，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图表 2" descr=""/>
          <p:cNvPicPr/>
          <p:nvPr/>
        </p:nvPicPr>
        <p:blipFill>
          <a:blip r:embed="rId1"/>
          <a:stretch/>
        </p:blipFill>
        <p:spPr>
          <a:xfrm>
            <a:off x="139680" y="1676520"/>
            <a:ext cx="8650440" cy="4705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250920" y="1125360"/>
            <a:ext cx="8610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心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17:27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